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45680" y="769680"/>
            <a:ext cx="4162680" cy="29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012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dt" idx="12"/>
          </p:nvPr>
        </p:nvSpPr>
        <p:spPr>
          <a:xfrm>
            <a:off x="38811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3"/>
          </p:nvPr>
        </p:nvSpPr>
        <p:spPr>
          <a:xfrm>
            <a:off x="-36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4"/>
          </p:nvPr>
        </p:nvSpPr>
        <p:spPr>
          <a:xfrm>
            <a:off x="388116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71C4D-8F5E-4EA0-8D33-47C16D1CDD52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43C86-4ECD-47D9-84BC-3CFCFAD73D98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878FB-AC60-4F6B-8645-E37207F59FC2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F71DD-73FC-436A-9288-E6333286A491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D1D3D-2713-4028-9F94-12966609F8D2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9EFF6-3341-4D3B-AC73-5423E8DE212A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B807F-9F82-4BE2-B161-997502A3D3F6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3C0FB-2BD6-41B7-811F-B47F8574EE46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1B202-E681-4655-A855-9CCC46AFE3AD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88CB9-1780-4B86-AF58-8BDC7E7C51CB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9072C-9D31-4F0A-9B0A-C3A3FEEC007A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E1AA1-7ABD-4655-B5C5-2A47816E31F1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BE400-7985-469A-AF8E-99209A882D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E58A8-B663-4494-8B8A-D3BC8031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4154-87DE-4ED2-98BD-AF9A7639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1964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02980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48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31964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802980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9E4D0-7485-4114-9189-4343BB34F4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FD2FD-D3A6-46AF-9E1E-FF1B506462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20268-8D40-4FA9-8EBB-A9367B42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1810B-BBAE-4AE8-AD7E-1A773B72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DA3A4-CD02-4415-9474-6C5C59A0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21273-C98E-44F6-B8D6-09ACA255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522360"/>
            <a:ext cx="87076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F9525-72F5-41B2-9694-55351478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EB2B2-2113-4B39-9600-BC03255E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74E62-C4A5-4FC3-A32F-726B8855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9E660-141A-4665-B214-A445BD33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D82B0-10A4-4BCF-9234-806A65BB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A2534-5757-4E8D-B972-FE12D864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625DC-042E-466B-BE6A-F6C5DD5D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1964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02980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48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31964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802980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7150D-2DE0-4761-98A2-A51102CFF2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EB09-95FD-4193-8D44-AED241708B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D051-34BD-4A5C-8281-41582668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2257-7DE1-4369-9D3A-B794178C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529F-E972-4AE6-8FAB-B8D7F01C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9E50-38E9-45F4-97B7-2085F0D0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DB4AA-C211-4247-8F36-E00A93A7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522360"/>
            <a:ext cx="87076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8297-03F6-4EDA-B1A0-6F4CF4B9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E230-733E-4C75-ADBB-3EBFD3BC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E6E0-1087-4902-8BAF-8C1EB127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9D3A-7F74-4830-88EC-367513FC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571F-DC79-4AD4-AE3E-E79A21F4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675D-8739-45D4-AB14-69E1B1ED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1964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02980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48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31964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02980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C5BD-5C7B-4EC4-8F29-1CE63B9542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822A0-498A-482D-9094-80704CF253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C9030-2D65-434E-BD11-FB4B963C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EA6F8-D5AA-4028-80BB-1F759569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502DD-1E2D-49DB-A878-53087B91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C3E56-9D82-43BE-999A-C335705C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D70C9-34B8-4767-943F-78978E2B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480" y="522360"/>
            <a:ext cx="87076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E12FE-5BED-48F5-99DE-D53A84F0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A6225-D679-4F4E-9513-4F9E9B3A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0C34E-1468-40AE-9AA6-259AA7A5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02452-D7C3-485D-9765-F0F21305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1DDEB1-E025-463F-8C24-282895DD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A3318C-A4D9-4C08-8BA0-05E03EAA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31964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02980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48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31964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802980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D4168-564B-431F-877C-E12F90BDF5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C87731-FAEC-4B99-96A5-0E1E2C8E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61F0B-CFBC-4620-B016-65A732E1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AB7C20-8DDB-450F-A0E9-814E21F8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2317E6-49FC-47C5-9D2C-5DEE42E1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0D48B-0CAB-4872-AF3B-FE890414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F8433F-551E-411F-913D-15F28819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09480" y="522360"/>
            <a:ext cx="87076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C36A5A-0F99-40D3-931D-94210E89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C26AA0-F1D5-4E93-B431-906824CA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40E0E-60EC-46E2-98DD-4720524C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1B208-96F6-4552-9B93-FE183971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4D9E17-CA1F-4E10-BF79-14F845A1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A61FDE-A2D5-4C50-9C0F-6D01A599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480" y="522360"/>
            <a:ext cx="87076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D8A18-F82D-4121-B235-F3327B30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31964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02980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0948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431964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802980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1A97F3-3F4F-44F3-B9B8-66C7F4E4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2EC4-2A19-4F4E-9EEC-FBF36424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2241C-7C52-4F07-893C-62883E7B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C518A-118D-46F7-B6C2-90A5D788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-7920"/>
            <a:ext cx="12190320" cy="6864480"/>
            <a:chOff x="0" y="-7920"/>
            <a:chExt cx="12190320" cy="6864480"/>
          </a:xfrm>
        </p:grpSpPr>
        <p:sp>
          <p:nvSpPr>
            <p:cNvPr id="1" name="Line 2"/>
            <p:cNvSpPr/>
            <p:nvPr/>
          </p:nvSpPr>
          <p:spPr>
            <a:xfrm>
              <a:off x="9371160" y="0"/>
              <a:ext cx="1217520" cy="68565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" name="Line 3"/>
            <p:cNvSpPr/>
            <p:nvPr/>
          </p:nvSpPr>
          <p:spPr>
            <a:xfrm flipH="1">
              <a:off x="7423200" y="3681360"/>
              <a:ext cx="4765680" cy="31752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9182160" y="-7920"/>
              <a:ext cx="3004920" cy="686448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9604440" y="-7920"/>
              <a:ext cx="2585880" cy="686448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8933040" y="3048120"/>
              <a:ext cx="3257280" cy="380844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9334440" y="-7920"/>
              <a:ext cx="2852640" cy="686448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10899720" y="-7920"/>
              <a:ext cx="1289160" cy="686448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10939320" y="-7920"/>
              <a:ext cx="1247760" cy="686448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10372680" y="3591000"/>
              <a:ext cx="181620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0" y="4013280"/>
              <a:ext cx="447840" cy="284328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859464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880" y="2160360"/>
            <a:ext cx="859464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880"/>
            <a:ext cx="90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Text Box 15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sldNum" idx="2"/>
          </p:nvPr>
        </p:nvSpPr>
        <p:spPr>
          <a:xfrm>
            <a:off x="858996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9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D73D99-DBEC-46A1-BF6D-8B30F74AA0BD}" type="slidenum">
              <a:rPr b="0" lang="pl-PL" sz="9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"/>
          <p:cNvGrpSpPr/>
          <p:nvPr/>
        </p:nvGrpSpPr>
        <p:grpSpPr>
          <a:xfrm>
            <a:off x="0" y="-7920"/>
            <a:ext cx="12189960" cy="6864480"/>
            <a:chOff x="0" y="-7920"/>
            <a:chExt cx="12189960" cy="6864480"/>
          </a:xfrm>
        </p:grpSpPr>
        <p:sp>
          <p:nvSpPr>
            <p:cNvPr id="53" name="Line 2"/>
            <p:cNvSpPr/>
            <p:nvPr/>
          </p:nvSpPr>
          <p:spPr>
            <a:xfrm>
              <a:off x="9370800" y="0"/>
              <a:ext cx="1217520" cy="68565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4" name="Line 3"/>
            <p:cNvSpPr/>
            <p:nvPr/>
          </p:nvSpPr>
          <p:spPr>
            <a:xfrm flipH="1">
              <a:off x="7422120" y="3681360"/>
              <a:ext cx="4766040" cy="31752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5" name="Freeform 4"/>
            <p:cNvSpPr/>
            <p:nvPr/>
          </p:nvSpPr>
          <p:spPr>
            <a:xfrm>
              <a:off x="9181800" y="-7920"/>
              <a:ext cx="3004920" cy="686448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" name="Freeform 5"/>
            <p:cNvSpPr/>
            <p:nvPr/>
          </p:nvSpPr>
          <p:spPr>
            <a:xfrm>
              <a:off x="9604080" y="-7920"/>
              <a:ext cx="2585880" cy="686448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7" name="AutoShape 6"/>
            <p:cNvSpPr/>
            <p:nvPr/>
          </p:nvSpPr>
          <p:spPr>
            <a:xfrm>
              <a:off x="8932320" y="3048120"/>
              <a:ext cx="3257640" cy="380844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>
              <a:off x="9334080" y="-7920"/>
              <a:ext cx="2852640" cy="686448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9" name="Freeform 8"/>
            <p:cNvSpPr/>
            <p:nvPr/>
          </p:nvSpPr>
          <p:spPr>
            <a:xfrm>
              <a:off x="10899360" y="-7920"/>
              <a:ext cx="1289160" cy="686448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" name="Freeform 9"/>
            <p:cNvSpPr/>
            <p:nvPr/>
          </p:nvSpPr>
          <p:spPr>
            <a:xfrm>
              <a:off x="10938960" y="-7920"/>
              <a:ext cx="1247760" cy="686448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10372320" y="3591000"/>
              <a:ext cx="181620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2" name="AutoShape 11"/>
            <p:cNvSpPr/>
            <p:nvPr/>
          </p:nvSpPr>
          <p:spPr>
            <a:xfrm rot="10800000">
              <a:off x="0" y="1440"/>
              <a:ext cx="841680" cy="56642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859464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880" y="2160360"/>
            <a:ext cx="859464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7205400" y="6041880"/>
            <a:ext cx="90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858996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BCF0EB0-446A-4620-A0C6-600E44585916}" type="slidenum">
              <a: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"/>
          <p:cNvGrpSpPr/>
          <p:nvPr/>
        </p:nvGrpSpPr>
        <p:grpSpPr>
          <a:xfrm>
            <a:off x="0" y="-7920"/>
            <a:ext cx="12190320" cy="6864480"/>
            <a:chOff x="0" y="-7920"/>
            <a:chExt cx="12190320" cy="6864480"/>
          </a:xfrm>
        </p:grpSpPr>
        <p:sp>
          <p:nvSpPr>
            <p:cNvPr id="105" name="Line 2"/>
            <p:cNvSpPr/>
            <p:nvPr/>
          </p:nvSpPr>
          <p:spPr>
            <a:xfrm>
              <a:off x="9371160" y="0"/>
              <a:ext cx="1217520" cy="68565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6" name="Line 3"/>
            <p:cNvSpPr/>
            <p:nvPr/>
          </p:nvSpPr>
          <p:spPr>
            <a:xfrm flipH="1">
              <a:off x="7423200" y="3681360"/>
              <a:ext cx="4765680" cy="31752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7" name="Freeform 4"/>
            <p:cNvSpPr/>
            <p:nvPr/>
          </p:nvSpPr>
          <p:spPr>
            <a:xfrm>
              <a:off x="9182160" y="-7920"/>
              <a:ext cx="3004920" cy="686448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8" name="Freeform 5"/>
            <p:cNvSpPr/>
            <p:nvPr/>
          </p:nvSpPr>
          <p:spPr>
            <a:xfrm>
              <a:off x="9604440" y="-7920"/>
              <a:ext cx="2585880" cy="686448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8933040" y="3048120"/>
              <a:ext cx="3257280" cy="380844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0" name="Freeform 7"/>
            <p:cNvSpPr/>
            <p:nvPr/>
          </p:nvSpPr>
          <p:spPr>
            <a:xfrm>
              <a:off x="9334440" y="-7920"/>
              <a:ext cx="2852640" cy="686448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1" name="Freeform 8"/>
            <p:cNvSpPr/>
            <p:nvPr/>
          </p:nvSpPr>
          <p:spPr>
            <a:xfrm>
              <a:off x="10899720" y="-7920"/>
              <a:ext cx="1289160" cy="686448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2" name="Freeform 9"/>
            <p:cNvSpPr/>
            <p:nvPr/>
          </p:nvSpPr>
          <p:spPr>
            <a:xfrm>
              <a:off x="10939320" y="-7920"/>
              <a:ext cx="1247760" cy="686448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3" name="AutoShape 10"/>
            <p:cNvSpPr/>
            <p:nvPr/>
          </p:nvSpPr>
          <p:spPr>
            <a:xfrm>
              <a:off x="10372680" y="3591000"/>
              <a:ext cx="181620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4" name="AutoShape 11"/>
            <p:cNvSpPr/>
            <p:nvPr/>
          </p:nvSpPr>
          <p:spPr>
            <a:xfrm>
              <a:off x="0" y="4013280"/>
              <a:ext cx="447840" cy="284328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15" name="Text Box 12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859464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880" y="2160360"/>
            <a:ext cx="859464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5"/>
          </p:nvPr>
        </p:nvSpPr>
        <p:spPr>
          <a:xfrm>
            <a:off x="7205400" y="6041880"/>
            <a:ext cx="90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6"/>
          </p:nvPr>
        </p:nvSpPr>
        <p:spPr>
          <a:xfrm>
            <a:off x="858996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B4BD5A4-6568-4585-AF6B-6062DDAF9DC5}" type="slidenum">
              <a: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"/>
          <p:cNvGrpSpPr/>
          <p:nvPr/>
        </p:nvGrpSpPr>
        <p:grpSpPr>
          <a:xfrm>
            <a:off x="0" y="-7920"/>
            <a:ext cx="12190320" cy="6864480"/>
            <a:chOff x="0" y="-7920"/>
            <a:chExt cx="12190320" cy="6864480"/>
          </a:xfrm>
        </p:grpSpPr>
        <p:sp>
          <p:nvSpPr>
            <p:cNvPr id="159" name="Line 2"/>
            <p:cNvSpPr/>
            <p:nvPr/>
          </p:nvSpPr>
          <p:spPr>
            <a:xfrm>
              <a:off x="9371160" y="0"/>
              <a:ext cx="1217520" cy="68565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0" name="Line 3"/>
            <p:cNvSpPr/>
            <p:nvPr/>
          </p:nvSpPr>
          <p:spPr>
            <a:xfrm flipH="1">
              <a:off x="7423200" y="3681360"/>
              <a:ext cx="4765680" cy="31752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1" name="Freeform 4"/>
            <p:cNvSpPr/>
            <p:nvPr/>
          </p:nvSpPr>
          <p:spPr>
            <a:xfrm>
              <a:off x="9182160" y="-7920"/>
              <a:ext cx="3004920" cy="686448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2" name="Freeform 5"/>
            <p:cNvSpPr/>
            <p:nvPr/>
          </p:nvSpPr>
          <p:spPr>
            <a:xfrm>
              <a:off x="9604440" y="-7920"/>
              <a:ext cx="2585880" cy="686448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3" name="AutoShape 6"/>
            <p:cNvSpPr/>
            <p:nvPr/>
          </p:nvSpPr>
          <p:spPr>
            <a:xfrm>
              <a:off x="8933040" y="3048120"/>
              <a:ext cx="3257280" cy="380844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4" name="Freeform 7"/>
            <p:cNvSpPr/>
            <p:nvPr/>
          </p:nvSpPr>
          <p:spPr>
            <a:xfrm>
              <a:off x="9334440" y="-7920"/>
              <a:ext cx="2852640" cy="686448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10899720" y="-7920"/>
              <a:ext cx="1289160" cy="686448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6" name="Freeform 9"/>
            <p:cNvSpPr/>
            <p:nvPr/>
          </p:nvSpPr>
          <p:spPr>
            <a:xfrm>
              <a:off x="10939320" y="-7920"/>
              <a:ext cx="1247760" cy="686448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7" name="AutoShape 10"/>
            <p:cNvSpPr/>
            <p:nvPr/>
          </p:nvSpPr>
          <p:spPr>
            <a:xfrm>
              <a:off x="10372680" y="3591000"/>
              <a:ext cx="181620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8" name="AutoShape 11"/>
            <p:cNvSpPr/>
            <p:nvPr/>
          </p:nvSpPr>
          <p:spPr>
            <a:xfrm>
              <a:off x="0" y="4013280"/>
              <a:ext cx="447840" cy="284328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69" name="Text Box 12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859464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880" y="2160360"/>
            <a:ext cx="859464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7205400" y="6041880"/>
            <a:ext cx="90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8"/>
          </p:nvPr>
        </p:nvSpPr>
        <p:spPr>
          <a:xfrm>
            <a:off x="858996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0DA323F-C051-4EAF-8A7E-9FAC0D3F307C}" type="slidenum">
              <a: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219356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9"/>
          </p:nvPr>
        </p:nvSpPr>
        <p:spPr>
          <a:xfrm>
            <a:off x="609120" y="6246720"/>
            <a:ext cx="28386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0"/>
          </p:nvPr>
        </p:nvSpPr>
        <p:spPr>
          <a:xfrm>
            <a:off x="4170240" y="6246720"/>
            <a:ext cx="3864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1"/>
          </p:nvPr>
        </p:nvSpPr>
        <p:spPr>
          <a:xfrm>
            <a:off x="8741880" y="6246720"/>
            <a:ext cx="28386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83CC8-9691-4CEF-9329-49BCBE96F5C1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erc.edu/" TargetMode="External"/><Relationship Id="rId2" Type="http://schemas.openxmlformats.org/officeDocument/2006/relationships/hyperlink" Target="http://www.prc.krakow.pl/" TargetMode="External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1506600" y="2405160"/>
            <a:ext cx="77677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900"/>
            </a:br>
            <a:r>
              <a:rPr b="0" lang="pl-PL" sz="4900" spc="-1" strike="noStrike">
                <a:solidFill>
                  <a:srgbClr val="90c226"/>
                </a:solidFill>
                <a:latin typeface="Arial"/>
                <a:ea typeface="WenQuanYi Zen Hei"/>
              </a:rPr>
              <a:t>Algorytm postępowania na miejscu wypadku</a:t>
            </a:r>
            <a:endParaRPr b="0" lang="en-US" sz="4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1506600" y="4095720"/>
            <a:ext cx="7767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WenQuanYi Zen Hei"/>
              </a:rPr>
              <a:t>Bibliografi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ea typeface="WenQuanYi Zen Hei"/>
                <a:hlinkClick r:id="rId1"/>
              </a:rPr>
              <a:t>www.erc.edu/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ea typeface="WenQuanYi Zen Hei"/>
                <a:hlinkClick r:id="rId2"/>
              </a:rPr>
              <a:t>www.prc.krakow.p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J. Słoma, G. Zając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Edukacja dla bezpieczeństwa. Żyję i działam bezpiecznie. Podrecznik z ćwiczeniami dla klas 1-3 gimnazju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. Nowa Era, Warszawa 2009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M. Goniewicz, A.W. Nowa-Kowal, Z. Smutek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Edukacja dla bezpieczeństwa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WenQuanYi Zen Hei"/>
              </a:rPr>
              <a:t>Podsumowani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WenQuanYi Zen Hei"/>
              </a:rPr>
              <a:t>Struktura prezentacji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zasady udzielania pierwszej pomocy,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charakterystyka łańcucha przeżycia,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numery alarmowe,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algorytm postępowania na miejscu wypadku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"/>
          <p:cNvPicPr/>
          <p:nvPr/>
        </p:nvPicPr>
        <p:blipFill>
          <a:blip r:embed="rId1"/>
          <a:srcRect l="0" t="6466" r="0" b="9557"/>
          <a:stretch/>
        </p:blipFill>
        <p:spPr>
          <a:xfrm>
            <a:off x="2160720" y="1511280"/>
            <a:ext cx="7143480" cy="419724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2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WenQuanYi Zen Hei"/>
              </a:rPr>
              <a:t>Zasady udzielania pierwszej pomocy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435400" y="591192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Złota godzina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6184800" y="5911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Platynowe minut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Złota godzina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60 minut, w trakcie których poszkodowany powinien się znaleźć w szpitalu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3232080" y="3108240"/>
            <a:ext cx="475308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WenQuanYi Zen Hei"/>
              </a:rPr>
              <a:t>Platynowe minut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pierwszych 5 minut, w czasie których należy podjąć zabiegi resuscytacyjn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3311640" y="3195720"/>
            <a:ext cx="47718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Charakterystyka łańcucha przeżycia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1279440" y="1671480"/>
            <a:ext cx="8474040" cy="38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Numery alarmowe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677880" y="1249200"/>
            <a:ext cx="3727440" cy="2494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2"/>
          <a:stretch/>
        </p:blipFill>
        <p:spPr>
          <a:xfrm>
            <a:off x="7746840" y="1249200"/>
            <a:ext cx="3729240" cy="2494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"/>
          <p:cNvPicPr/>
          <p:nvPr/>
        </p:nvPicPr>
        <p:blipFill>
          <a:blip r:embed="rId3"/>
          <a:stretch/>
        </p:blipFill>
        <p:spPr>
          <a:xfrm>
            <a:off x="4405320" y="1252440"/>
            <a:ext cx="3341520" cy="24908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676440" y="3762360"/>
            <a:ext cx="3328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  <a:ea typeface="WenQuanYi Zen Hei"/>
              </a:rPr>
              <a:t>999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pogotowie ratunkowe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4405320" y="3760920"/>
            <a:ext cx="33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998 </a:t>
            </a:r>
            <a:r>
              <a:rPr b="0" lang="pl-PL" sz="16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straż pożarna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7746840" y="3760920"/>
            <a:ext cx="37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997 </a:t>
            </a:r>
            <a:r>
              <a:rPr b="0" lang="pl-PL" sz="16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policja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697040" y="5178600"/>
            <a:ext cx="4616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Trebuchet MS"/>
                <a:ea typeface="WenQuanYi Zen Hei"/>
              </a:rPr>
              <a:t>112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rebuchet MS"/>
                <a:ea typeface="WenQuanYi Zen Hei"/>
              </a:rPr>
              <a:t>Centrum Powiadamiania Ratunkowego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5" name="Picture 9" descr=""/>
          <p:cNvPicPr/>
          <p:nvPr/>
        </p:nvPicPr>
        <p:blipFill>
          <a:blip r:embed="rId4"/>
          <a:stretch/>
        </p:blipFill>
        <p:spPr>
          <a:xfrm>
            <a:off x="6931080" y="4330800"/>
            <a:ext cx="3765600" cy="25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Algorytm postępowania na miejscu wypadku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479520" y="1773360"/>
            <a:ext cx="9361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Ocena sytuacji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Ocena bezpieczeństwa ratownika, poszkodowanego i świadków wypadku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Pierwsza pomoc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Dalsza opieka nad poszkodowanym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Przekazanie informacji o poszkodowanym 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6765840" y="2924280"/>
            <a:ext cx="5016600" cy="33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Pytania do prezentacji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3:47:12Z</dcterms:created>
  <dc:creator>Andrzej Iskrzycki</dc:creator>
  <dc:description/>
  <dc:language>en-US</dc:language>
  <cp:lastModifiedBy>Andrzej Iskrzycki</cp:lastModifiedBy>
  <dcterms:modified xsi:type="dcterms:W3CDTF">2013-08-18T16:59:00Z</dcterms:modified>
  <cp:revision>9</cp:revision>
  <dc:subject/>
  <dc:title> Algorytm postępowania na miejscu wypadku</dc:title>
</cp:coreProperties>
</file>